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D0B-7D3D-481C-92F7-9AF2BE49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82F-1520-41AC-9D70-A217B876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036-DBED-482D-8E96-15229B80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1AD-AE0D-4C1C-921F-F1F25567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0D2-FAE6-4976-963A-D49C354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2D5-912A-4EEA-848C-C2D56471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5F3-7F9E-415E-A216-E92F14A3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4F0-371E-4E33-958A-F683E52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A6D-A818-4DA8-9538-F1CF3654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EED-6B50-4F59-BFBE-5FA001C6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DDD-8D9E-4829-90A9-880E713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C64-0AE7-4196-9988-3EA50C3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4A90-1C26-44A1-9713-7738D752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514600" y="685800"/>
            <a:ext cx="6400800" cy="5753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19320" y="380880"/>
            <a:ext cx="569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  <a:solidFill>
                  <a:srgbClr val="969696"/>
                </a:solidFill>
                <a:latin typeface="Arial Black"/>
              </a:rPr>
              <a:t>Darkness gives no fear</a:t>
            </a:r>
            <a:endParaRPr b="0" lang="en-US" sz="1800" spc="1" strike="noStrike"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59080"/>
            <a:ext cx="79250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When the argument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room fills up with sm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shes are the leftovers from the burning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Running from the blood red f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Into the mist of obscure 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o give up, escape, forever hide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narrow path is full of angu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3520" y="533520"/>
            <a:ext cx="4762440" cy="560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2720160"/>
            <a:ext cx="8458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s one begins to ha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way from all the misfortune, the to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darkness gives no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When the pain drips down as t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Nightfall gives some unimaginable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Allowing our mind to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The lightning bugs brighten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866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0600" y="254160"/>
            <a:ext cx="4819680" cy="634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575720"/>
            <a:ext cx="830556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As we discover the path has ended</a:t>
            </a: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Gone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Time to slow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Meet a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Allow the ached heart a while to 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Before the morning d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Imprint MT Shadow"/>
              </a:rPr>
              <a:t>Breaks into dusk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mprint MT Shadow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866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2:51:32Z</dcterms:created>
  <dc:creator>Current User</dc:creator>
  <dc:description/>
  <dc:language>en-US</dc:language>
  <cp:lastModifiedBy>Current User</cp:lastModifiedBy>
  <dcterms:modified xsi:type="dcterms:W3CDTF">2008-02-28T02:14:43Z</dcterms:modified>
  <cp:revision>7</cp:revision>
  <dc:subject/>
  <dc:title>Slide 1</dc:title>
</cp:coreProperties>
</file>